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7C6-6EAF-4434-85F6-5A564CC4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6B1-8571-48EF-9722-9B8CF46B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CAD-1E7E-400F-B4A5-791D34F8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4DF-F301-4D84-84BF-A0C4292E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B671-162C-45AC-B835-80760981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3D3C-F976-4403-A0A8-02905F6C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1C96-73A6-4F2C-A347-8A8AC4E2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D4F0-5DA2-49E2-9532-7C8A1D61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6E1A-8D16-4A4F-A89D-C6632E0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4090-CC8F-4627-857A-A7BEB0F0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6B8B-90FF-44A8-A844-2115C665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855-93A6-4B7E-AEFF-E7C398EA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71D3-F884-4D96-A223-360C4BE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AD67-D91E-48C0-A897-7AB798B6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B35C-C42E-42DF-B9E1-DAE405DA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CF1B-6B3E-4678-A86F-1797EEB4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F166-4953-42C8-B428-17607470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BAE42-2135-4A65-A0A2-B402BD3F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71354-E547-4EE6-A657-0232FBA2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2B30A-B8EE-41B6-83B4-4C0748D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1633C-D9BF-48B1-B901-2056A0B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251B3-480B-450F-BF95-23AA2D6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772-09CB-4621-A1FF-734ECDF9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90C23-39E7-4862-A12B-98E0CAC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EF26B-1A3D-48B6-86E3-B91F7FB9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DD87E-5539-408B-91ED-4DD20CC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D1424-27EE-4070-B969-7648CD42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5B5A9-A68B-4F29-8CB5-F38F69E9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FF566-289C-4729-8C65-6637CDE6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1B8B9-8A5F-4F5D-B384-55078882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83BFC-AAE9-4768-A7E6-66DEB4F7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EF52-E59B-4841-AF2B-08A82EE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66C24-565D-4E04-98AE-C9D84332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61E-1313-4C69-9C71-4F93817A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0C96-39C1-488B-9747-9C521734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EB4CA-29E5-4B78-A5B0-DB904598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552A-57FA-442D-9FC9-AC390EF9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3B5CD-8FD2-424B-9C46-B6F3ABAB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465DE-8F28-4DA9-B2AF-6DCE3080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9D5C-6DF3-4BE9-B7E7-4FB66FC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C506-0559-4F99-BA7C-02A6315F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EE980-9FB1-4CA7-BC78-8A421450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BC8C-78CE-420A-B0D0-F1A28713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827-CB7D-4786-9488-2D9AA3DB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3C7-BE90-4077-A498-4F796B8C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CD8-4141-415D-98A6-AAB5240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34A-FEF4-414C-A324-46A5247A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899-FE94-4175-ABB2-A5F3B10C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E42D-A066-4A34-99E5-9D97D27D4AB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3AF2-1E20-4DC0-93B9-F8E6CE3DB656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64F5-2440-48C7-A780-DC40E94D08F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E39B-26D5-4D65-902D-A693579E480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hapter 6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Sports Marketing Career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406224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porting Good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600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porting goods are sold in both retail outlets and wholesale outle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nufacturers, wholesalers, and retailers of sporting goods employ salespeople to get the products out on the market and technical representatives who go to stores to train salespeopl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nufacturers-Nike, Reebok, Adid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porting-good retailers-Sports Authority, Champ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1523880" cy="1432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http://d26yigxxs6gued.cloudfront.net/img/partners/art/Champs-Sports-Logo.png"/>
          <p:cNvPicPr/>
          <p:nvPr/>
        </p:nvPicPr>
        <p:blipFill>
          <a:blip r:embed="rId2"/>
          <a:stretch/>
        </p:blipFill>
        <p:spPr>
          <a:xfrm>
            <a:off x="4008600" y="4952880"/>
            <a:ext cx="38383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Professional and Collegiate Sport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eason ticket sales representativ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icket services manag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nside sales associat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rporate/ticket sales personne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ccount executive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roup-sales manag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4720" y="2313000"/>
            <a:ext cx="404172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rketing coordinato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rector of market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rector of communication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rector of promotion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2" descr="http://www.ecenglish.com/blogs/Cape-Town/wp-content/uploads/2009/01/business-people_000001227086small.jpg"/>
          <p:cNvPicPr/>
          <p:nvPr/>
        </p:nvPicPr>
        <p:blipFill>
          <a:blip r:embed="rId1"/>
          <a:stretch/>
        </p:blipFill>
        <p:spPr>
          <a:xfrm>
            <a:off x="5562720" y="4648320"/>
            <a:ext cx="227160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ports Associations and Organizations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B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NB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F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H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SCA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G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2" descr="http://4.mshcdn.com/wp-content/uploads/2011/07/nfl-logo.jpg"/>
          <p:cNvPicPr/>
          <p:nvPr/>
        </p:nvPicPr>
        <p:blipFill>
          <a:blip r:embed="rId1"/>
          <a:stretch/>
        </p:blipFill>
        <p:spPr>
          <a:xfrm>
            <a:off x="6172200" y="2133720"/>
            <a:ext cx="1711440" cy="1135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scm-l3.technorati.com/12/07/27/70831/NBA.png?t=20120727000403"/>
          <p:cNvPicPr/>
          <p:nvPr/>
        </p:nvPicPr>
        <p:blipFill>
          <a:blip r:embed="rId2"/>
          <a:stretch/>
        </p:blipFill>
        <p:spPr>
          <a:xfrm>
            <a:off x="6858000" y="3733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4.bp.blogspot.com/-oYvAORQP7cE/UFmYSxyxh_I/AAAAAAAAACQ/IeryRAborqo/s1600/mlb-logo.jpg"/>
          <p:cNvPicPr/>
          <p:nvPr/>
        </p:nvPicPr>
        <p:blipFill>
          <a:blip r:embed="rId3"/>
          <a:stretch/>
        </p:blipFill>
        <p:spPr>
          <a:xfrm>
            <a:off x="3897360" y="3144960"/>
            <a:ext cx="1254240" cy="939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http://upload.wikimedia.org/wikipedia/en/thumb/e/e4/NHL_Logo_former.svg/150px-NHL_Logo_former.svg.png"/>
          <p:cNvPicPr/>
          <p:nvPr/>
        </p:nvPicPr>
        <p:blipFill>
          <a:blip r:embed="rId4"/>
          <a:stretch/>
        </p:blipFill>
        <p:spPr>
          <a:xfrm>
            <a:off x="5934240" y="4084560"/>
            <a:ext cx="1023840" cy="1050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www.nysportsjournalism.com/storage/PGA_TourLogo.gif?__SQUARESPACE_CACHEVERSION=1291836781567"/>
          <p:cNvPicPr/>
          <p:nvPr/>
        </p:nvPicPr>
        <p:blipFill>
          <a:blip r:embed="rId5"/>
          <a:stretch/>
        </p:blipFill>
        <p:spPr>
          <a:xfrm>
            <a:off x="4533840" y="4361040"/>
            <a:ext cx="1290600" cy="1549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https://twimg0-a.akamaihd.net/profile_images/2309109151/79vdiopjz64qyl0pxods.png"/>
          <p:cNvPicPr/>
          <p:nvPr/>
        </p:nvPicPr>
        <p:blipFill>
          <a:blip r:embed="rId6"/>
          <a:stretch/>
        </p:blipFill>
        <p:spPr>
          <a:xfrm>
            <a:off x="4359240" y="197820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ports Association and Organization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ajor League Basebal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ional Basketball Association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omen’s National Basketball Associ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ional Football Leagu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ional Hockey League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jor League Socc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tional Association for Stock Car Auto Racing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fessional Golfers’ Associatio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Broadcast, Online, and Print Med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the US, media coverage and treatment of sports are extensive and operate through many communication channe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SPN, Sports Illustrated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8" name="Picture 2" descr="https://twimg0-a.akamaihd.net/profile_images/2553495291/pte9c947iyknmtdon8ge.jpeg"/>
          <p:cNvPicPr/>
          <p:nvPr/>
        </p:nvPicPr>
        <p:blipFill>
          <a:blip r:embed="rId1"/>
          <a:stretch/>
        </p:blipFill>
        <p:spPr>
          <a:xfrm>
            <a:off x="144792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ttp://sportsmediamasters.com/smm/wp-content/uploads/2012/05/Sports-Illustrated-logo.jpg"/>
          <p:cNvPicPr/>
          <p:nvPr/>
        </p:nvPicPr>
        <p:blipFill>
          <a:blip r:embed="rId2"/>
          <a:stretch/>
        </p:blipFill>
        <p:spPr>
          <a:xfrm>
            <a:off x="4572000" y="4419720"/>
            <a:ext cx="24764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ports Venu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2514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acilities or locations where sporting events take plac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icket collection, security, maintenance, parking, vendors, concession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3200400" y="434988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ports Agenc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panies that specialize in marketing and managing sports events, sports teams, and professional athlet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40482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2:56:15Z</dcterms:created>
  <dc:creator>Windows User</dc:creator>
  <dc:description/>
  <dc:language>en-US</dc:language>
  <cp:lastModifiedBy>Windows User</cp:lastModifiedBy>
  <dcterms:modified xsi:type="dcterms:W3CDTF">2012-11-26T13:31:23Z</dcterms:modified>
  <cp:revision>7</cp:revision>
  <dc:subject/>
  <dc:title>Chapter 6</dc:title>
</cp:coreProperties>
</file>